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7212-DC32-4F7B-A5F0-9C79A9B3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06D2-8B3A-4E57-9548-356133A1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00C0-B955-4446-901D-6C7C5EA5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AF33-C8B5-49C9-9836-78DDF1D56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751B2-A3A6-4EBC-9320-1DA54E03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3821E-42BC-422A-B25C-6CA187C1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CA6C1-B4B5-4EE6-BA2D-9671D2A7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8107B-394F-4675-88A7-573FCDB6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9040B-5F87-4CF9-B025-45DCF9B4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5E8E5-6D69-4EF1-A622-37536718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21189-B64D-4D3C-BEEE-3F3B7015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830F-4EE8-4D24-962C-802C2FCD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C7943-8ACA-4565-AF16-DA037ECA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76CF4-0EB1-4742-A456-FC992C25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FF44E-6AF0-4E76-9ED3-E74BD8BA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068EE-588B-4EC8-9154-AD9D6298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1F208-6FBE-47C6-80C4-E319C90A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ADE2-6606-435C-903D-2B7C2C50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46CA-D50C-47EA-9C0F-6DC5CB0E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5EBC-ED95-4152-8BB4-52469325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1AF7-9F62-4ABE-9E1D-FC730616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9EC3-D25E-4A15-9C58-214F88F2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A289-3B8B-4EF4-A9D7-3D794BD4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2187-4A9F-4EC5-BDD3-911A9B70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5375-F995-46A2-BDDF-F805DDC6A0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7B1B-A4C7-4363-BC7D-084585E287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99692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APTER 3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utting Down Root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36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portunity and Oppression in Colonial Soci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merica Past and Pres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ighth Edi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vine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Breen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Fredrickson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Williams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Gross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Bra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5786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tructure of Plan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ciety: The Gentry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bacco the basis of Chesapeake w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rge landowners had to have labor under their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at planters few but domin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rived with capital to invest in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assed huge tracts of l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try intermarried and become colony’s elite lead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tructure of Plan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ciety: The Freem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rgest class in Chesapeake soci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freed at the end of inden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ved on the edge of pover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tructure of Planter Society: Indentured Serva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itude a temporary stat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ditions har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ants regarded their bondage as slav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ters feared rebe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tructure of Planter Society: Post-1680s Stabi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fore 1680, the rank of gentry was open to people with capit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graphic shift after 1680 created Creole el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wnership of slaves consolidated planter wealth and pos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emen found advancement more difficu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tructure of Planter Society: A Dispersed Popul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rge-scale tobacco cultivation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at landhold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y access to water-borne commer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: population dispersed along great tidal riv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ginia a rural society devoid of tow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 system was seen as unnecessary and got little atten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ace and Freedom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 British Americ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ians decimated by dis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uropean indentured servant pool waned after 16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slaved Africans filled demand for lab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ots of Slave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Africans came to Virginia in 161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s of Africans in Virginia unclear for fifty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ing black population in Virginia after 1672 prompted stricter slave la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ricans defined as slaves for lif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ave status passed on to childr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ite masters possessed total control of slave life and lab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xing of races not tole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rigins and Destinations of African Slaves, 1619-176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rcRect l="945" t="1718" r="1020" b="567"/>
          <a:stretch/>
        </p:blipFill>
        <p:spPr>
          <a:xfrm>
            <a:off x="609480" y="1905120"/>
            <a:ext cx="7925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structing African American Identities: Geography’s Influenc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ave experience differed from colony to colo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0% of South Carolina population bla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arly half Virginia population bla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cks much less numerous in New England and the Middle Colon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structing African American Identities: African Initiati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lder black population tended to look down on recent arrivals from Afri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Africans participated in creating an African American 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quired an imaginative re-shaping of African and European custom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1720, African population and culture were self-susta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urces of Stability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w England Colonies of the Seventeenth Century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8960" y="2742840"/>
            <a:ext cx="792324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Englanders replicated traditional English social ord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asted with experience in other English colon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nation lies in development of Puritan famil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structing African American Identities: Slave Resist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despread resentment of debased statu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med resistance such as South Carolina’s Stono Rebellion of 1739 a thr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ck mariners linked African American communities and brought news of outside world to American sla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ise of a Commercial Empi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lish leaders ignored colonies until 1650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tored monarchy of Charles II recognized value of colonial t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vigation Acts passed to regulate, protect, glean revenue from comme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ponse to Economic Compet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cantilism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country’s gain is another country’s lo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untries gain by control of world’s scarce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glish trade regulations mor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d ho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esponses to particular problems than coherent mercantilist poli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eties of moti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own wanted mone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glish merchants wanted to exclude Du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liament wanted stronger navy—encouraged domestic shipbuilding indust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people preferred more exports, less impo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gulating Colonial Trade: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Navigation Act of 1660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ips engaged in English colonial tr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st be made in England (or Americ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st carry a crew at least 75% Englis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umerated goods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onl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English po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660 list included tobacco, sugar, cotton, indigo, dyes, ging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704-1705 molasses, rice, naval stores al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ff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couraged ship building in Engl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de it harder for rivals to get certain goo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nerated revenue for the crow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gulating Colonial Trade: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Navigation Act of 166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ple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s shipped to English colonies must pass through Eng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d price paid by colonial consum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gulating Colonial Trade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mplementing the Act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vigation Acts aimed at removing Dutch role in English commer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ters hurt by Navigation A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England merchants skirted law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glish revisions tightened loopho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96—Admiralty Courts and Board of Trade creat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vigation Acts eventually benefited colonial merch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lonial Factions Spark Political Revolt, 1676-169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lish colonies experienced unrest at the end of the seventeenth cent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rest not social revolution but a contest between gentry “ins” and “out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nners gained legitimacy for their ru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ivil War in Virginia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acon’s Rebellion—Beginning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6600" y="2189160"/>
            <a:ext cx="7930800" cy="38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ontent with Governor Berkeley’s ru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en Spring faction controlled lucrative economic activ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ontier population felt that Berkeley did not protect them from Native Americ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haniel Bacon united this discontent into rebellion in 16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bellion allowed small farmers, blacks and women to join, demand refor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ivil War in Virginia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con’s Rebellion—Outcom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bels burned capital, caused great dis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or William Berkeley regained control, but was recalled to Eng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bellion collapsed after Bacon’s dea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try recovered positions and united over next decades to oppose royal govern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Glorious Revolution in the Bay Colony: King Philip’s W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6920" y="2189160"/>
            <a:ext cx="7710480" cy="38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 divided by increased tr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ought non-Puritan settl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vigation Acts inflicted direct royal pres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75—Metacomet led Wampanoag-Narragansett alliance against colon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onists struggled to unite, to defeat Indi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aths totaled 1000+ Indians and colon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mmigrant Familie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d New Social Order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ritans believed God ordained the fami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roduced patriarchal English family structure in New Eng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ge population growth caused by high life expectancy more than high fert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ater longevity in New England resulted in “invention” of grandpar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generational families strengthened social st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Glorious Revolution in the Bay Colony: The Dominion of New Engla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84—King James II established “Dominion of New Englan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onial charters annul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onies from Maine to New Jersey uni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mund Andros appointed governor, ruled tyrannically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89—news of James II’s overthrow sparked rebellion in Massachuset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Glorious Revolution in the Bay Colony: Outcom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ros deposed when word of revolution in England reached New Eng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minion of New England split up in 169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 III and Mary II gave Massachusetts a new chart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orporated Plymou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ting rights based on property and wealth, not church memb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tagion of Witchcraf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ges of witchcraft com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used witches thought to have made a compact with the dev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lem panic of 1691 much larger in scope than previous accus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enty victims dead before trials halted in late summer of 169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isters outside Salem condemned practice of using “Spectral Evidence” in tr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s included church factionalism, economic jealousy, misogyny, and fear of Native American att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Glorious Revolution in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w Yor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lying tension between older Dutch elite and newly wealthy Anglo-Dutch merch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89—news of James II’s overthrow prompted crisis of authority in New Y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cob Leisler seized cont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ntained position through 169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ch 1691—Governor Henry Sloughter arrested and executed Leisl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Glorious Revolution in Maryla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89—news prompted John Coode to lead revolt against Catholic govern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ode’s rebellion approved by King Willi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yland as Royal colo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yland taken from Calvert contr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glican official church; Catholics barred from off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15—proprietorship restored to the Protestant fourth Lord Baltimo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ocal Aspirations withi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 Atlantic Empi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1700, England’s attitude toward the colonies had changed dramatica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tional differences within the colonies were profou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all part of Great Britain but had little to do with each o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monwealth of Famil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New Englanders married neighbors with similar val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useholds produced their own needs and surpl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England towns were collections of interrelated househol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urch membership associated with certain families and church activities increasingly reflected th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provided by the fami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men’s Live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 Puritan New Engla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men’s ro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rm labor, although not necessarily same tasks as 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ten outnumbered men 2:1 in church membershi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men could not control prope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vorce difficult for a woman to obt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th genders accommodated themselves to roles they believed God ordai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cial Hierarchy in New Engla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sence of very rich necessitated creation of new social 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England social ord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l gentry of prominent, pious famil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rge population of independent yeomen landowners loyal to local commun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mall population of landless laborers, servants, po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y moderate disparities of w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itude was more an apprenticeship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Challenge of the Chesapeake Environ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pite similarities in background and timing with New England, Chesapeake settlements were very differ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death rate most important source of distinctiveness of Chesapea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mily Life at Ris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mal family life impossible in Virgi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ly young male indentured serva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immigrants soon di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marriages, one spouse often died within seven yea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ended families com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tality rates so high that without immigration, population would have decli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men in Chesapeake Socie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arcity gave some women bargaining power in marriage mark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male indentured servants vulnerable to sexual exploi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ldbearing extremely danger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sapeake women died twenty years earlier than women in New Eng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resa Ward User</cp:lastModifiedBy>
  <dcterms:modified xsi:type="dcterms:W3CDTF">2006-11-08T19:13:01Z</dcterms:modified>
  <cp:revision>13</cp:revision>
  <dc:subject/>
  <dc:title>CHAPTER 2 Putting Down Roots   Opportunity and Oppression in Colonial Society</dc:title>
</cp:coreProperties>
</file>